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8BC2-2818-4ED2-8AEC-8C3D31A7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C08-B6DB-4CAB-865F-CAE60DE9BD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8A3F-4DA7-436B-942D-9756451E9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5D8-6431-4A8F-9352-947B18F095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64EA-23E1-4464-9579-A544FB8E7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8E24-90A6-494D-9541-0244EFC38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8AC-3665-49FB-8028-A52FEA7AB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A05A-CF19-46D5-A1F7-34900063A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6E2B-AD4F-4C44-8913-0F426BC181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E3A-3BD2-45BE-8928-7927FF01A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DEC8-CEE6-47A9-902E-1C821F42C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2B6-9491-44AD-95D6-E5BED9C6F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47E-9745-4DB6-822E-FD033CF8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166-34D0-4EFA-ACB0-5F01BE60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04B-9743-46E7-9CE0-A2DE83EA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ED4-45E6-4967-B90C-4CC7637C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D6078-177E-4811-BB0B-701C1281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891E6-91BA-409B-9326-C9959CD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7E845-A267-48E0-81AF-71BF18BB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AF2B8-CA6A-4082-B2B0-CFB98E98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C19F-CA63-48D6-BFC9-2E8B5D8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0B166-5EDD-42F5-BAB5-F95D5A8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BFBD6-7BAE-4E48-B8D4-57B30906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4DA-7E8B-49CA-BB95-5FA5769D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37FE0-2BA1-40C4-B3EF-0408ED0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17B0-291D-44AA-95EB-D61E511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DEF94-1B46-4182-BCFF-F0221ED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1A33-982F-4436-867D-F6D39419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5DAD1-7F61-41EB-A912-0F39196F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9AE-918C-4DAA-A32E-E304C4B0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130-36CD-4C9D-A76E-9B5489E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5B8-6E9E-4387-A162-60F2A5B9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4A7-D9A6-48BC-AF82-43C9B3D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0AD-7788-4021-A6CA-8002CEA1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361-9498-419B-8640-CE7E98BA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309-D3B0-44CB-8D0A-E24528F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759-8908-4402-8E33-0A28F8DCC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65AC-8829-4454-AFAC-BAFA42884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rrativ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Conventions: Genre vs. Classic Hollyw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 from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moves 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force/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n of events--time subordinate to cause and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story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e-en-Sce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(time, place, pr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ume and Make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Expression and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: System, not Hodgepo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elements link--tornado as cause for Doroth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rip to 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istic elements also link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 off to See the Wizard.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y--two subsystems (narrative and stylistic) within larger system of the total fil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links with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m colors identify prominent land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 movements highlight sto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 describes certain characters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from *Wizard of Oz*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 vs.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is the to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matter and ideas enter into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matter manifested in different ways depending on ideas (Civil War film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s--ABA for Wizard of 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s and experience guide us to recogniz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and feeling: emotion conveyed by actor may result in different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and meaning: meaning (theme) attributed to Wizard of Oz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--is the film good or bad based on it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s of Film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--every element fulfills one or more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ity and repetition--motifs (any significant repeated element in a film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and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--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y/Disunity--loose ends or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as a Formal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and Story--plot includes everything visibly and audibly present in the film, but story is the narrative. Some elements of plot are not part of the story or narr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v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ings, Closings, Pattern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r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w of story information--just as with no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05:34Z</dcterms:created>
  <dc:creator>Robin Murray</dc:creator>
  <dc:description/>
  <dc:language>en-US</dc:language>
  <cp:lastModifiedBy>Robin Murray</cp:lastModifiedBy>
  <dcterms:modified xsi:type="dcterms:W3CDTF">2011-10-31T19:36:31Z</dcterms:modified>
  <cp:revision>4</cp:revision>
  <dc:subject/>
  <dc:title>Film Form</dc:title>
</cp:coreProperties>
</file>